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4C7-56F4-4C8D-BD85-324D05D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141-2F4F-45B5-A09F-C63D34EA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7EC-39D7-4063-B603-FD535406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FD0-CFAC-43A7-926C-91A13BB1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A02-76B2-4329-9BCB-D3F42BD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BE1-A7A3-4158-8605-C85D1DF7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5DC-90D9-49A7-BBAE-A88AFAD5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EAA-15CF-4DEB-A58A-9D9211BC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5FD-1E87-4707-9F56-CD742F7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309-0048-4B6B-B2C7-649E055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F5A-2674-4DFD-BA49-06AA353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A44-87FF-4FA5-880F-8925B37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E37-976C-48A3-9FE7-3BE166D258F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9A5-8B0C-4F38-95B2-5E9E017752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8d3e"/>
                </a:solidFill>
                <a:latin typeface="Calibri"/>
              </a:rPr>
              <a:t>Algebraic Fractions and </a:t>
            </a:r>
            <a:br>
              <a:rPr sz="4400"/>
            </a:br>
            <a:r>
              <a:rPr b="0" lang="en-GB" sz="4400" spc="-1" strike="noStrike">
                <a:solidFill>
                  <a:srgbClr val="ff8d3e"/>
                </a:solidFill>
                <a:latin typeface="Calibri"/>
              </a:rPr>
              <a:t>Rational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ction Button: Home 2"/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318320" y="1285920"/>
            <a:ext cx="61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nce you know how to simplify algebraic fractions,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n solve equations contain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2357280" y="2714760"/>
                <a:ext cx="16480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4205160" y="2714760"/>
                <a:ext cx="236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6"/>
          <p:cNvSpPr/>
          <p:nvPr/>
        </p:nvSpPr>
        <p:spPr>
          <a:xfrm>
            <a:off x="2601360" y="392904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ick an equation to see it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2071800" y="571680"/>
                <a:ext cx="16477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Box 3"/>
          <p:cNvSpPr/>
          <p:nvPr/>
        </p:nvSpPr>
        <p:spPr>
          <a:xfrm>
            <a:off x="891360" y="7858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1000080" y="1725480"/>
                <a:ext cx="3325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85680" y="2816280"/>
                <a:ext cx="21574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1000080" y="3929040"/>
                <a:ext cx="149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1000080" y="5295960"/>
                <a:ext cx="1587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3044880" y="5032440"/>
                <a:ext cx="149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4" name="Action Button: Custom 10" descr=""/>
          <p:cNvPicPr/>
          <p:nvPr/>
        </p:nvPicPr>
        <p:blipFill>
          <a:blip r:embed="rId1"/>
          <a:stretch/>
        </p:blipFill>
        <p:spPr>
          <a:xfrm>
            <a:off x="7553160" y="5979960"/>
            <a:ext cx="107820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891360" y="78588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ction Button: Custom 10" descr=""/>
          <p:cNvPicPr/>
          <p:nvPr/>
        </p:nvPicPr>
        <p:blipFill>
          <a:blip r:embed="rId1"/>
          <a:stretch/>
        </p:blipFill>
        <p:spPr>
          <a:xfrm>
            <a:off x="7553160" y="5979960"/>
            <a:ext cx="1078200" cy="43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1928880" y="571680"/>
                <a:ext cx="236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1285920" y="1643040"/>
                <a:ext cx="40752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285920" y="2757600"/>
                <a:ext cx="3146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929120" y="2714760"/>
                <a:ext cx="1978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1258920" y="3929040"/>
                <a:ext cx="2098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1268280" y="4643280"/>
                <a:ext cx="15894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1905120" y="5286240"/>
                <a:ext cx="809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Rational Equ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85800" y="749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equation in the previous example is called 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ational equation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4"/>
          <p:cNvGrpSpPr/>
          <p:nvPr/>
        </p:nvGrpSpPr>
        <p:grpSpPr>
          <a:xfrm>
            <a:off x="685800" y="1600200"/>
            <a:ext cx="8699400" cy="822240"/>
            <a:chOff x="685800" y="1600200"/>
            <a:chExt cx="8699400" cy="822240"/>
          </a:xfrm>
        </p:grpSpPr>
        <p:sp>
          <p:nvSpPr>
            <p:cNvPr id="158" name="Rectangle 4"/>
            <p:cNvSpPr/>
            <p:nvPr/>
          </p:nvSpPr>
          <p:spPr>
            <a:xfrm>
              <a:off x="685800" y="1676520"/>
              <a:ext cx="869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and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are rational equa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066680" y="1676520"/>
                  <a:ext cx="115596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048120" y="1600200"/>
                  <a:ext cx="195084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" name="Rectangle 8"/>
          <p:cNvSpPr/>
          <p:nvPr/>
        </p:nvSpPr>
        <p:spPr>
          <a:xfrm>
            <a:off x="1231920" y="5216400"/>
            <a:ext cx="52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heck the solu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231920" y="4797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Solve the resulting polynomial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31920" y="398448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lear denominators by multiplying both sides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quation by the L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231920" y="35114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ind the LCM of the denomina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609480" y="2908440"/>
            <a:ext cx="7874280" cy="2869920"/>
            <a:chOff x="609480" y="2908440"/>
            <a:chExt cx="7874280" cy="2869920"/>
          </a:xfrm>
        </p:grpSpPr>
        <p:sp>
          <p:nvSpPr>
            <p:cNvPr id="166" name="Rectangle 7"/>
            <p:cNvSpPr/>
            <p:nvPr/>
          </p:nvSpPr>
          <p:spPr>
            <a:xfrm>
              <a:off x="685800" y="2971800"/>
              <a:ext cx="50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To solve a rational equ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09480" y="2908440"/>
              <a:ext cx="7874280" cy="286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s: 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482760" y="590400"/>
            <a:ext cx="4508280" cy="746280"/>
            <a:chOff x="482760" y="590400"/>
            <a:chExt cx="4508280" cy="746280"/>
          </a:xfrm>
        </p:grpSpPr>
        <p:sp>
          <p:nvSpPr>
            <p:cNvPr id="170" name="Rectangle 3"/>
            <p:cNvSpPr/>
            <p:nvPr/>
          </p:nvSpPr>
          <p:spPr>
            <a:xfrm>
              <a:off x="482760" y="733320"/>
              <a:ext cx="45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CA" sz="1800" spc="-1" strike="noStrike">
                  <a:solidFill>
                    <a:srgbClr val="ff0000"/>
                  </a:solidFill>
                  <a:latin typeface="Arial"/>
                </a:rPr>
                <a:t>1.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 Solv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097080" y="590400"/>
                  <a:ext cx="15400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Text Box 7"/>
          <p:cNvSpPr/>
          <p:nvPr/>
        </p:nvSpPr>
        <p:spPr>
          <a:xfrm>
            <a:off x="5373720" y="1360440"/>
            <a:ext cx="307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Multiply by LCM = (</a:t>
            </a:r>
            <a:r>
              <a:rPr b="0" i="1" lang="en-CA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 – 3)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65440" y="1779480"/>
            <a:ext cx="14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454560" y="133020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473280" y="173664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373000" y="2224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408280" y="29862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5"/>
          <p:cNvGrpSpPr/>
          <p:nvPr/>
        </p:nvGrpSpPr>
        <p:grpSpPr>
          <a:xfrm>
            <a:off x="2907000" y="1982880"/>
            <a:ext cx="1947600" cy="846000"/>
            <a:chOff x="2907000" y="1982880"/>
            <a:chExt cx="1947600" cy="84600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930760" y="2082960"/>
                  <a:ext cx="192384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      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      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Text Box 17"/>
            <p:cNvSpPr/>
            <p:nvPr/>
          </p:nvSpPr>
          <p:spPr>
            <a:xfrm>
              <a:off x="2907000" y="2370240"/>
              <a:ext cx="459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3999240" y="1982880"/>
              <a:ext cx="459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4011840" y="2370240"/>
              <a:ext cx="459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295800" y="2844720"/>
                <a:ext cx="113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21"/>
          <p:cNvSpPr/>
          <p:nvPr/>
        </p:nvSpPr>
        <p:spPr>
          <a:xfrm>
            <a:off x="6391080" y="2984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9"/>
          <p:cNvGrpSpPr/>
          <p:nvPr/>
        </p:nvGrpSpPr>
        <p:grpSpPr>
          <a:xfrm>
            <a:off x="1905120" y="3765600"/>
            <a:ext cx="2793960" cy="745920"/>
            <a:chOff x="1905120" y="3765600"/>
            <a:chExt cx="2793960" cy="745920"/>
          </a:xfrm>
        </p:grpSpPr>
        <p:sp>
          <p:nvSpPr>
            <p:cNvPr id="186" name="Rectangle 22"/>
            <p:cNvSpPr/>
            <p:nvPr/>
          </p:nvSpPr>
          <p:spPr>
            <a:xfrm>
              <a:off x="1905120" y="3895560"/>
              <a:ext cx="279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Arial"/>
                </a:rPr>
                <a:t>2.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Solv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110040" y="3765600"/>
                  <a:ext cx="110628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" name="Rectangle 24"/>
          <p:cNvSpPr/>
          <p:nvPr/>
        </p:nvSpPr>
        <p:spPr>
          <a:xfrm>
            <a:off x="2673360" y="532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 = 2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6508080" y="39513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Find the L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4621680" y="3843360"/>
            <a:ext cx="181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M =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– 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5411880" y="47642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Multiply by L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5406480" y="53672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3130560" y="57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5379120" y="5811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2"/>
          <p:cNvGrpSpPr/>
          <p:nvPr/>
        </p:nvGrpSpPr>
        <p:grpSpPr>
          <a:xfrm>
            <a:off x="2013120" y="4567320"/>
            <a:ext cx="3379680" cy="819000"/>
            <a:chOff x="2013120" y="4567320"/>
            <a:chExt cx="3379680" cy="81900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013120" y="4567320"/>
                  <a:ext cx="25016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        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479680" y="4782960"/>
                  <a:ext cx="291312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    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: 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5800" y="50004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ter clearing denominators,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a solution of the polynomial equatio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may make a denominator of the rational equation z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994040" y="301788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 = 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)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992240" y="5332320"/>
            <a:ext cx="67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CA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kes both denominators zero, the rational equation has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no solutio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685800" y="2152800"/>
            <a:ext cx="5956200" cy="745920"/>
            <a:chOff x="685800" y="2152800"/>
            <a:chExt cx="5956200" cy="745920"/>
          </a:xfrm>
        </p:grpSpPr>
        <p:sp>
          <p:nvSpPr>
            <p:cNvPr id="204" name="Rectangle 4"/>
            <p:cNvSpPr/>
            <p:nvPr/>
          </p:nvSpPr>
          <p:spPr>
            <a:xfrm>
              <a:off x="685800" y="2282760"/>
              <a:ext cx="595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Solve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895480" y="2152800"/>
                  <a:ext cx="1587600" cy="74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Rectangle 9"/>
          <p:cNvSpPr/>
          <p:nvPr/>
        </p:nvSpPr>
        <p:spPr>
          <a:xfrm>
            <a:off x="4019400" y="479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CA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537000" y="436104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1 =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065680" y="53323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981080" y="1719360"/>
            <a:ext cx="46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It is critical to check all solution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85800" y="1236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this case, the value is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not a solution of the rational equatio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5556240" y="301932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CM = </a:t>
            </a:r>
            <a:r>
              <a:rPr b="0" lang="en-CA" sz="1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CA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8080"/>
                </a:solidFill>
                <a:latin typeface="Arial"/>
              </a:rPr>
              <a:t> – 1)(</a:t>
            </a:r>
            <a:r>
              <a:rPr b="0" i="1" lang="en-CA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8080"/>
                </a:solidFill>
                <a:latin typeface="Arial"/>
              </a:rPr>
              <a:t> + 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1998720" y="3546360"/>
            <a:ext cx="4944960" cy="817560"/>
            <a:chOff x="1998720" y="3546360"/>
            <a:chExt cx="4944960" cy="81756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998720" y="3546360"/>
                  <a:ext cx="35370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951280" y="3762360"/>
                  <a:ext cx="39924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    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79200" y="7225920"/>
            <a:ext cx="111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: Solv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C18-80D7-4311-9A4D-456FADF6CB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914400" y="527040"/>
            <a:ext cx="6083280" cy="746280"/>
            <a:chOff x="914400" y="527040"/>
            <a:chExt cx="6083280" cy="746280"/>
          </a:xfrm>
        </p:grpSpPr>
        <p:sp>
          <p:nvSpPr>
            <p:cNvPr id="218" name="Rectangle 4"/>
            <p:cNvSpPr/>
            <p:nvPr/>
          </p:nvSpPr>
          <p:spPr>
            <a:xfrm>
              <a:off x="914400" y="669960"/>
              <a:ext cx="60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: Solv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3132000" y="527040"/>
                  <a:ext cx="23101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Text Box 6"/>
          <p:cNvSpPr/>
          <p:nvPr/>
        </p:nvSpPr>
        <p:spPr>
          <a:xfrm>
            <a:off x="5107680" y="148104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059440" y="36482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olynomial Eq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5142960" y="42130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107680" y="47721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864040" y="1481040"/>
            <a:ext cx="30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The LCM is (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– 3)(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– 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900080" y="1430280"/>
            <a:ext cx="2936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5 =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– 3)(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258640" y="3602160"/>
            <a:ext cx="149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5) =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911600" y="4167360"/>
            <a:ext cx="1640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+ 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649880" y="4707000"/>
            <a:ext cx="186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2)(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3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043000" y="5272200"/>
            <a:ext cx="151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5146560" y="51544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Check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= 2 is a 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146560" y="556272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ff"/>
                </a:solidFill>
                <a:latin typeface="Arial"/>
              </a:rPr>
              <a:t>Check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 is not a solution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since both sides would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defined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35120" y="2000160"/>
                <a:ext cx="23097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Text Box 31"/>
          <p:cNvSpPr/>
          <p:nvPr/>
        </p:nvSpPr>
        <p:spPr>
          <a:xfrm>
            <a:off x="5081040" y="210492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Original Eq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3396600" y="5428440"/>
            <a:ext cx="244080" cy="243000"/>
            <a:chOff x="3396600" y="5428440"/>
            <a:chExt cx="244080" cy="243000"/>
          </a:xfrm>
        </p:grpSpPr>
        <p:sp>
          <p:nvSpPr>
            <p:cNvPr id="235" name="Line 34"/>
            <p:cNvSpPr/>
            <p:nvPr/>
          </p:nvSpPr>
          <p:spPr>
            <a:xfrm>
              <a:off x="3396600" y="5428440"/>
              <a:ext cx="242640" cy="24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 flipV="1">
              <a:off x="3398040" y="5428800"/>
              <a:ext cx="242640" cy="24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3"/>
          <p:cNvGrpSpPr/>
          <p:nvPr/>
        </p:nvGrpSpPr>
        <p:grpSpPr>
          <a:xfrm>
            <a:off x="811080" y="2797200"/>
            <a:ext cx="5791320" cy="817560"/>
            <a:chOff x="811080" y="2797200"/>
            <a:chExt cx="5791320" cy="817560"/>
          </a:xfrm>
        </p:grpSpPr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811080" y="2797200"/>
                  <a:ext cx="430704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               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1644480" y="3013200"/>
                  <a:ext cx="495792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 </m:t>
                      </m:r>
                      <m:r>
                        <m:rPr>
                          <m:lit/>
                          <m:nor/>
                        </m:rPr>
                        <m:t xml:space="preserve">       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42960" y="857160"/>
            <a:ext cx="575784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is discussion, we will look at examples of simplifying Algebraic Fractions using the 4 rules of frac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72320" y="2000160"/>
            <a:ext cx="804960" cy="1041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72320" y="2664000"/>
            <a:ext cx="750960" cy="10429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72320" y="3260880"/>
            <a:ext cx="804960" cy="1042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72320" y="3925800"/>
            <a:ext cx="8049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2143080" y="714240"/>
                <a:ext cx="1500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003400" y="1908000"/>
                <a:ext cx="25862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2000160" y="3019320"/>
                <a:ext cx="1916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000160" y="4091040"/>
                <a:ext cx="16606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5" name="Rectangle 8" descr=""/>
          <p:cNvPicPr/>
          <p:nvPr/>
        </p:nvPicPr>
        <p:blipFill>
          <a:blip r:embed="rId1"/>
          <a:stretch/>
        </p:blipFill>
        <p:spPr>
          <a:xfrm>
            <a:off x="5205240" y="4992840"/>
            <a:ext cx="804960" cy="1042920"/>
          </a:xfrm>
          <a:prstGeom prst="rect">
            <a:avLst/>
          </a:prstGeom>
          <a:ln w="0">
            <a:noFill/>
          </a:ln>
        </p:spPr>
      </p:pic>
      <p:sp>
        <p:nvSpPr>
          <p:cNvPr id="56" name="Action Button: Home 9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2286000" y="682560"/>
                <a:ext cx="1214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2003400" y="1908000"/>
                <a:ext cx="25862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2000160" y="3027240"/>
                <a:ext cx="1595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3" name="Rectangle 9" descr=""/>
          <p:cNvPicPr/>
          <p:nvPr/>
        </p:nvPicPr>
        <p:blipFill>
          <a:blip r:embed="rId1"/>
          <a:stretch/>
        </p:blipFill>
        <p:spPr>
          <a:xfrm>
            <a:off x="5205240" y="4925880"/>
            <a:ext cx="804960" cy="1041480"/>
          </a:xfrm>
          <a:prstGeom prst="rect">
            <a:avLst/>
          </a:prstGeom>
          <a:ln w="0">
            <a:noFill/>
          </a:ln>
        </p:spPr>
      </p:pic>
      <p:sp>
        <p:nvSpPr>
          <p:cNvPr id="64" name="Action Button: Home 10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254320" y="682560"/>
                <a:ext cx="12780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300560" y="674640"/>
                <a:ext cx="28116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1928880" y="1857240"/>
                <a:ext cx="1628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911240" y="3143160"/>
                <a:ext cx="16606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Straight Connector 12"/>
          <p:cNvSpPr/>
          <p:nvPr/>
        </p:nvSpPr>
        <p:spPr>
          <a:xfrm flipH="1">
            <a:off x="2268000" y="3071880"/>
            <a:ext cx="357480" cy="64296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2982240" y="3643200"/>
            <a:ext cx="214200" cy="35748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1952640" y="4214880"/>
                <a:ext cx="14050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5" name="Rectangle 16" descr=""/>
          <p:cNvPicPr/>
          <p:nvPr/>
        </p:nvPicPr>
        <p:blipFill>
          <a:blip r:embed="rId1"/>
          <a:stretch/>
        </p:blipFill>
        <p:spPr>
          <a:xfrm>
            <a:off x="5492880" y="4925880"/>
            <a:ext cx="536400" cy="1041480"/>
          </a:xfrm>
          <a:prstGeom prst="rect">
            <a:avLst/>
          </a:prstGeom>
          <a:ln w="0">
            <a:noFill/>
          </a:ln>
        </p:spPr>
      </p:pic>
      <p:sp>
        <p:nvSpPr>
          <p:cNvPr id="76" name="Action Button: Home 17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6072120" y="4857840"/>
                <a:ext cx="2567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097000" y="714240"/>
                <a:ext cx="23320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4734000" y="714240"/>
                <a:ext cx="34812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1714680" y="2000160"/>
                <a:ext cx="26193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714920" y="2000160"/>
                <a:ext cx="14047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1"/>
              <p:cNvSpPr txBox="1"/>
              <p:nvPr/>
            </p:nvSpPr>
            <p:spPr>
              <a:xfrm>
                <a:off x="1619280" y="3297240"/>
                <a:ext cx="1596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Straight Connector 15"/>
          <p:cNvSpPr/>
          <p:nvPr/>
        </p:nvSpPr>
        <p:spPr>
          <a:xfrm flipH="1">
            <a:off x="1982880" y="3357720"/>
            <a:ext cx="231840" cy="35712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6"/>
          <p:cNvSpPr/>
          <p:nvPr/>
        </p:nvSpPr>
        <p:spPr>
          <a:xfrm>
            <a:off x="2428200" y="3857760"/>
            <a:ext cx="214200" cy="35712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27720" y="38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2"/>
              <p:cNvSpPr txBox="1"/>
              <p:nvPr/>
            </p:nvSpPr>
            <p:spPr>
              <a:xfrm>
                <a:off x="1571760" y="4368960"/>
                <a:ext cx="1149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" name="Rectangle 22" descr=""/>
          <p:cNvPicPr/>
          <p:nvPr/>
        </p:nvPicPr>
        <p:blipFill>
          <a:blip r:embed="rId1"/>
          <a:stretch/>
        </p:blipFill>
        <p:spPr>
          <a:xfrm>
            <a:off x="5492880" y="4925880"/>
            <a:ext cx="536400" cy="1041480"/>
          </a:xfrm>
          <a:prstGeom prst="rect">
            <a:avLst/>
          </a:prstGeom>
          <a:ln w="0">
            <a:noFill/>
          </a:ln>
        </p:spPr>
      </p:pic>
      <p:sp>
        <p:nvSpPr>
          <p:cNvPr id="90" name="Action Button: Home 23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6662880" y="4857840"/>
                <a:ext cx="1838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286000" y="571680"/>
                <a:ext cx="146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13" descr=""/>
          <p:cNvPicPr/>
          <p:nvPr/>
        </p:nvPicPr>
        <p:blipFill>
          <a:blip r:embed="rId1"/>
          <a:stretch/>
        </p:blipFill>
        <p:spPr>
          <a:xfrm>
            <a:off x="5638680" y="4925880"/>
            <a:ext cx="804960" cy="104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1992240" y="1897200"/>
                <a:ext cx="1916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2000160" y="3111480"/>
                <a:ext cx="1629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6662880" y="4857840"/>
                <a:ext cx="1838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2184480" y="654120"/>
                <a:ext cx="21733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13" descr=""/>
          <p:cNvPicPr/>
          <p:nvPr/>
        </p:nvPicPr>
        <p:blipFill>
          <a:blip r:embed="rId1"/>
          <a:stretch/>
        </p:blipFill>
        <p:spPr>
          <a:xfrm>
            <a:off x="5638680" y="4925880"/>
            <a:ext cx="804960" cy="1041480"/>
          </a:xfrm>
          <a:prstGeom prst="rect">
            <a:avLst/>
          </a:prstGeom>
          <a:ln w="0">
            <a:noFill/>
          </a:ln>
        </p:spPr>
      </p:pic>
      <p:sp>
        <p:nvSpPr>
          <p:cNvPr id="103" name="Action Button: Home 14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4786200" y="642960"/>
                <a:ext cx="226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1857240" y="1857240"/>
                <a:ext cx="2489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Box 10"/>
          <p:cNvSpPr/>
          <p:nvPr/>
        </p:nvSpPr>
        <p:spPr>
          <a:xfrm>
            <a:off x="5285520" y="2214720"/>
            <a:ext cx="1846440" cy="368280"/>
          </a:xfrm>
          <a:prstGeom prst="rect">
            <a:avLst/>
          </a:prstGeom>
          <a:gradFill rotWithShape="0">
            <a:gsLst>
              <a:gs pos="0">
                <a:srgbClr val="d1deee"/>
              </a:gs>
              <a:gs pos="100000">
                <a:srgbClr val="8dabcc"/>
              </a:gs>
            </a:gsLst>
            <a:lin ang="54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toring (2x-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2"/>
          <p:cNvSpPr/>
          <p:nvPr/>
        </p:nvSpPr>
        <p:spPr>
          <a:xfrm>
            <a:off x="2571840" y="1928880"/>
            <a:ext cx="928440" cy="35712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7"/>
          <p:cNvSpPr/>
          <p:nvPr/>
        </p:nvSpPr>
        <p:spPr>
          <a:xfrm>
            <a:off x="3357720" y="2500200"/>
            <a:ext cx="928440" cy="35748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8"/>
          <p:cNvSpPr/>
          <p:nvPr/>
        </p:nvSpPr>
        <p:spPr>
          <a:xfrm flipH="1">
            <a:off x="2428560" y="2500200"/>
            <a:ext cx="214200" cy="285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0"/>
          <p:cNvSpPr/>
          <p:nvPr/>
        </p:nvSpPr>
        <p:spPr>
          <a:xfrm flipH="1">
            <a:off x="3643200" y="1928880"/>
            <a:ext cx="214560" cy="285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1941840" y="2428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1843200" y="3286080"/>
                <a:ext cx="1371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1830240" y="4264200"/>
                <a:ext cx="669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6647040" y="4857840"/>
                <a:ext cx="18698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Box 4"/>
          <p:cNvSpPr/>
          <p:nvPr/>
        </p:nvSpPr>
        <p:spPr>
          <a:xfrm>
            <a:off x="899640" y="7858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tangle 13" descr=""/>
          <p:cNvPicPr/>
          <p:nvPr/>
        </p:nvPicPr>
        <p:blipFill>
          <a:blip r:embed="rId1"/>
          <a:stretch/>
        </p:blipFill>
        <p:spPr>
          <a:xfrm>
            <a:off x="5638680" y="4925880"/>
            <a:ext cx="804960" cy="1041480"/>
          </a:xfrm>
          <a:prstGeom prst="rect">
            <a:avLst/>
          </a:prstGeom>
          <a:ln w="0">
            <a:noFill/>
          </a:ln>
        </p:spPr>
      </p:pic>
      <p:sp>
        <p:nvSpPr>
          <p:cNvPr id="118" name="Action Button: Home 14">
            <a:hlinkClick r:id="rId2" action="ppaction://hlinksldjump"/>
          </p:cNvPr>
          <p:cNvSpPr/>
          <p:nvPr/>
        </p:nvSpPr>
        <p:spPr>
          <a:xfrm>
            <a:off x="7929720" y="600084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837"/>
                </a:moveTo>
                <a:lnTo>
                  <a:pt x="20576" y="6448"/>
                </a:ln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lnTo>
                  <a:pt x="24963" y="10800"/>
                </a:lnTo>
                <a:lnTo>
                  <a:pt x="23309" y="10800"/>
                </a:lnTo>
                <a:lnTo>
                  <a:pt x="23309" y="17989"/>
                </a:lnTo>
                <a:lnTo>
                  <a:pt x="12691" y="17989"/>
                </a:lnTo>
                <a:lnTo>
                  <a:pt x="12691" y="10800"/>
                </a:lnTo>
                <a:lnTo>
                  <a:pt x="11037" y="10800"/>
                </a:lnTo>
                <a:close/>
              </a:path>
              <a:path fill="darkenLess" w="36000" h="21600">
                <a:moveTo>
                  <a:pt x="20576" y="6448"/>
                </a:moveTo>
                <a:lnTo>
                  <a:pt x="20576" y="4707"/>
                </a:lnTo>
                <a:lnTo>
                  <a:pt x="22352" y="4707"/>
                </a:lnTo>
                <a:lnTo>
                  <a:pt x="22352" y="8224"/>
                </a:lnTo>
                <a:close/>
              </a:path>
              <a:path fill="darkenLess" w="36000" h="21600">
                <a:moveTo>
                  <a:pt x="17077" y="14299"/>
                </a:moveTo>
                <a:lnTo>
                  <a:pt x="18923" y="14299"/>
                </a:lnTo>
                <a:lnTo>
                  <a:pt x="18923" y="17989"/>
                </a:lnTo>
                <a:lnTo>
                  <a:pt x="23309" y="17989"/>
                </a:lnTo>
                <a:lnTo>
                  <a:pt x="23309" y="10800"/>
                </a:lnTo>
                <a:lnTo>
                  <a:pt x="12691" y="10800"/>
                </a:lnTo>
                <a:lnTo>
                  <a:pt x="12691" y="17989"/>
                </a:lnTo>
                <a:lnTo>
                  <a:pt x="170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2567160" y="654120"/>
                <a:ext cx="14065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2195640" y="1733400"/>
                <a:ext cx="16621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168640" y="2928960"/>
                <a:ext cx="17604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Straight Connector 23"/>
          <p:cNvSpPr/>
          <p:nvPr/>
        </p:nvSpPr>
        <p:spPr>
          <a:xfrm flipH="1">
            <a:off x="3357360" y="3000240"/>
            <a:ext cx="285480" cy="35748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4"/>
          <p:cNvSpPr/>
          <p:nvPr/>
        </p:nvSpPr>
        <p:spPr>
          <a:xfrm flipH="1">
            <a:off x="2714400" y="3571920"/>
            <a:ext cx="285480" cy="357120"/>
          </a:xfrm>
          <a:prstGeom prst="line">
            <a:avLst/>
          </a:prstGeom>
          <a:ln w="42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5"/>
          <p:cNvSpPr/>
          <p:nvPr/>
        </p:nvSpPr>
        <p:spPr>
          <a:xfrm flipH="1">
            <a:off x="3143160" y="3571920"/>
            <a:ext cx="285840" cy="357120"/>
          </a:xfrm>
          <a:prstGeom prst="line">
            <a:avLst/>
          </a:prstGeom>
          <a:ln w="42480">
            <a:solidFill>
              <a:srgbClr val="604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6"/>
          <p:cNvSpPr/>
          <p:nvPr/>
        </p:nvSpPr>
        <p:spPr>
          <a:xfrm flipH="1">
            <a:off x="2643120" y="3000240"/>
            <a:ext cx="285840" cy="357480"/>
          </a:xfrm>
          <a:prstGeom prst="line">
            <a:avLst/>
          </a:prstGeom>
          <a:ln w="42480">
            <a:solidFill>
              <a:srgbClr val="604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372780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3799440" y="300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9"/>
          <p:cNvSpPr/>
          <p:nvPr/>
        </p:nvSpPr>
        <p:spPr>
          <a:xfrm flipH="1">
            <a:off x="3786120" y="3571920"/>
            <a:ext cx="285840" cy="357120"/>
          </a:xfrm>
          <a:prstGeom prst="line">
            <a:avLst/>
          </a:prstGeom>
          <a:ln w="381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30"/>
          <p:cNvSpPr/>
          <p:nvPr/>
        </p:nvSpPr>
        <p:spPr>
          <a:xfrm flipH="1">
            <a:off x="3857400" y="3071880"/>
            <a:ext cx="285480" cy="357120"/>
          </a:xfrm>
          <a:prstGeom prst="line">
            <a:avLst/>
          </a:prstGeom>
          <a:ln w="381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143080" y="4143240"/>
                <a:ext cx="703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1:38:37Z</dcterms:created>
  <dc:creator>David</dc:creator>
  <dc:description/>
  <dc:language>en-US</dc:language>
  <cp:lastModifiedBy>Salem High School</cp:lastModifiedBy>
  <dcterms:modified xsi:type="dcterms:W3CDTF">2011-09-16T15:19:29Z</dcterms:modified>
  <cp:revision>18</cp:revision>
  <dc:subject/>
  <dc:title>Algebraic Fractions</dc:title>
</cp:coreProperties>
</file>